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704-CE38-4708-8D01-6F1D95C5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657-5E12-4392-8318-B48103E0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60E-86A3-48A6-BFA8-BC22E716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CB1-FAFF-45DF-8776-33334BC6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841F-EAEF-4B51-ACC1-90C9C8FA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D2E8-207D-45FB-8965-7E46BAC1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76E7-D589-4312-BC51-21F8EDFA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84DC-CE61-4A44-92FD-6D643B2D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8D3A-4751-4AAF-B7AA-51AC1918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E783-C582-4AA5-968A-645C1654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3BA6-B8AC-453B-B15F-A525526D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257-363F-4762-AF33-7207FAE6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7A19-AD6E-4B68-A6E9-7CCA18A4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2C5B-8056-400C-92A8-2F231049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B21D-55DA-48C7-9D3C-980D1419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49A8-04D7-4CCF-8B6C-EA69FD0B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9F19-4E4E-4CEA-AC15-AEE4C913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024B6-3796-42E5-89B1-46DE5CEB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FE5E4-64F2-4B16-A1C5-F0B39006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AB52E-1A2A-4ACF-A02A-7B959C84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1AE39-63B6-47AC-A62C-ED67F07C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8EFB4-CC43-48CF-91FC-2E3BD884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F2E-7DE3-432F-99F8-1BFCD2C3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8BD9A-3532-4FCB-9921-C117CC66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40C0B-FDE7-4793-A72D-C3570111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5C0E0-59B8-4E94-8A9E-A39CA27E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1B863-D151-490C-AF2C-9EBB69EB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A974A-BEA1-47D0-AD74-5AEF4BAA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C2421-749F-4B81-8DBC-B8486AC1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FE62A-5B77-4FD4-90FD-E61E4CE7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DA0-CAC3-46C2-9241-2F12B7E9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4F1-FC5D-4AD5-950B-0FCB10D0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D858-9DA9-46F5-86B2-23B26015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84C-CE88-42DC-AA07-569343E4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D97-185C-4BE5-8C81-126A7BD5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540-08A0-4AC7-AF0A-174E5070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C07D-4DD2-49DE-8DF7-057551641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8FC2-E6D2-4AD1-A001-698C29A4A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B265-6B08-4CA7-8EDE-22B287E15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 Standard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947 and the present day, ISO published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13 700 International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's work programme ranges from standard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activities, such as agriculture and construc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mechanical engineering, to medical devices,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st information technology developments, such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gital coding of audio-visual signals for multi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about ISO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's entire portfolio of standards is listed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alogue (www.iso.ch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an be ac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also provides access to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s Network (WSSN) (www.wssn.net 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twork of publicly accessible Web servers of stand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around the world. It contains link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, regional and national standardization bod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lso to other international and regio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develop standards in their specialized subject are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their principal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 Management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l strategic decisions are referred to the I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mbers, who meet for an annual General Assembl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roposals put to the members are developed 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ISO Council, drawn from the membership as a whole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ich resembles the board of directors of a busines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erations are managed by a Secretary-General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ich is a permanent appointm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 Financ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Secretary-General reports to a President who is 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minent figure in standardization or in business, elect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two yea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's national members pay subscriptions that mee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ost of ISO's Central Secretariat. The subscri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d by each member is in proportion to the country's G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Product and trade fig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source of revenue is the sale of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 Developmen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WHO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 standards are developed by technical committe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rising experts on loan from the industrial, technical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siness sectors. TC work progress can be followed on IS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si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xperts of a technical committee meet to discuss, deb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argue until they reach consensus on a draft agre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 circulated as a Draft International Standard (DIS) to ISO'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hip as a whole for comment and ballo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 Developmen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O members then take account of any 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receive in formulating their position on the dr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voting is in favour, the document, with even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s, is circulated to the ISO members as a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F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raft International Standard (FD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at vote is positive, the document is then published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national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's partner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and the IEC cooperate on a joint basis with the I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has recognized regional standards organization represen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, the Arab countries, the area covered by the Commonwealth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States, Europe, Latin America, the Pacific area,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-East Asia 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ist lia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also liaises with some 550 international and regional 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ed in aspects of ISO's standardization work.These includ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or so international standards developing bodies outside the ISO/I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SO 9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ISO 14000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ISO 9000 and ISO 14000 families are among ISO'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st widely known standards e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O 9000 has become an intemational reference for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quirements in business to business dealings, and I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4000 looks set to achieve at least as much, if not more,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elping organizations to meet their environ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e standards ISO 9000 and ISO 14000 familie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orldwide are known as "generic management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ndards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SO 9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ISO 14000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"Generic" means that the same standards can be appl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o any organization, large or small, whatever its product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cluding whether its "product" is actually a service - in 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ctor of activity, and whether it is a business enteiprise,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ublic administration, or a govemment depar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"Management system" refers to what the organization do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o manage its processes, or activiti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vast majority of ISO standards are highly specific to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articular product, material, or pro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SO 9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ISO 14000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SO 900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amily is primarily concemed with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"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anagement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is means what the organization does to fulf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e customer's quality requirements,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pplic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gulatory requirements, while aiming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nhance custom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tisfaction,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chieve continual improvement of 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erformance in pursuit of these objec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Standards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30751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дна недељ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ц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Ци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ођење у основе стручног енглеског језика из области управљања квалитет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ј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y Standards Mat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из области стандардизације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SO 9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ISO 14000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SO 1400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amily is primarily concemed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"environmental management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is means what the organization doe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mize  harmful  effects  on  the  environment  caus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y  its  activities,  and 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chieve continual improveme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ts environmental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vast majority of ISO standards are highly specific to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articular product, material, or pro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Intemational Standards which ISO develops are v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eful. They are useful to industrial and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ganizations of all types,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ovemments and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gulatory bodies, to trade officials, to conform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ssessment professionals, to suppliers and customer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ducts and services in both public and private secto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d, ultimately, to people in general in their roles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nsumers and at the en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O standards contribute to making the developm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nufacturing and supply of products and services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fficient, safer and clea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y make trade between countries easier and fair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y provide govemments with a technical base for healt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fety and environmental legis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y aid in transferring technology to developing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O standards also serve to safeguard consumers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ers in general, of products and services - as well a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e their lives simp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the following questions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the members of I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important details regarding ISO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ISO standard princi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us more about ISO 9000 and ISO 14 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Standards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y Standards Mat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из области стандардизације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SO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(International Organization f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tandardizati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O (International Organization 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ndardization) i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orld's largest developer of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lthough ISO's principal activity is the developme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echnical standards, ISO standards also have impor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conomic and social repercuss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O standards make a positive difference, not jus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ngineers and manufacturers for whom they solve bas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blems in production and distribution, but to society a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h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ISO 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is a network of the national standards institute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7 countries, on the basis of one member per countr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Central Secretariat in Geneva, Switzerland,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s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occupies a special position between the public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sectors, as: many of its member institutes are p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governmental structure of their countries, or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ed by their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ISO 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members have their roots uniquely in the priv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or, having been set up by national partnershi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associ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 is able to act as a bridging organization in which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ensus can be reached on solutions that meet both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quirements of business and the broader needs of societ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ch as the needs of stakeholder groups like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 Histor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oneering work in other fields than electricity was carried ou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the International Federation of the National Standardiz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tions (ISA), which was set up in 192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A's activities came to an end in 194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1946, delegates from 25 countries met in London and decid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reate a new international organization, of which the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uld be "to facilitate the international coordination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fication of industrial standards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w organization, ISO, officially began 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23 February 194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 Standard Principles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al Foo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ry participating ISO member of the institution has the right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part in the development of any standard which it judges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important to its country's economy. No matter what the siz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strength of that economy, each participating member in IS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 one vo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luntary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 standards are voluntary. A certain percentage of IS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s - mainly those concerned with health, safety or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vironment - has been adopted in some countries as part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ir regulatory framework, or is referred to in legislation f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it serves as the technical ba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 Standard Principles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240" y="9907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rket-drive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develops only those standards for which there is a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ns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ISO standards are voluntary, the fact that they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response to market demand, and are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sus among the interested parties, ensures widespr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bility of the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wi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standards are technical agreements which prov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for compatible technology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Korisnik</cp:lastModifiedBy>
  <dcterms:modified xsi:type="dcterms:W3CDTF">2010-05-07T11:38:16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